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C098-4658-4D90-B333-8AEA3517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0E96-060C-4194-9B3F-C626CBCF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0FA4-02EC-4DD0-91C3-A71B9ECB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1EF8-5E0D-4984-B5E2-CC9A32E1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CE58-CDD2-48CA-A4DA-7BA12AB4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B070-A53D-4594-8066-7806F1E6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93F2-BF26-4FB0-8E09-3173A658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0F57-61BB-4CA4-B8D5-DCFC57B7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33D2-3160-4835-BF04-24358A37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68C7-F08B-436A-9BF8-A5C9091D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315D-32D9-44F9-9371-AC75330A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EAC-C846-4627-A56A-472593AE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D76E-8733-4D51-B398-8A9ACAAD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6158-144C-4CA6-853C-E6D8B04A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0D0A-E74A-4744-86FF-9E8EF498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9552-41E8-4E2D-9C5D-6A24842C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CA5A-2405-47B8-827A-DE356B10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FB4-8C14-4AC0-B8A8-5A230CA5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6FAA-1295-4E9F-AB8D-0CD2C7A4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FDD-6A53-403D-AF8D-023CFBB1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3F1-5EF6-442F-B571-8F5FF88B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A2E-127B-4B77-A12E-940A7126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15C-4CB7-4C86-A3D1-581A73A1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D59-B635-4785-84D1-B33AEEE5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A303-BF1B-475C-8D48-F50A1AF252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DFF4-BF5A-4B8C-AF06-47512102D16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5"/>
          <p:cNvSpPr txBox="1"/>
          <p:nvPr/>
        </p:nvSpPr>
        <p:spPr>
          <a:xfrm>
            <a:off x="1187280" y="2205000"/>
            <a:ext cx="662472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ы чувст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268360" y="4762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«Окружающий мир» 3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3">
            <a:hlinkClick r:id="rId1"/>
          </p:cNvPr>
          <p:cNvSpPr/>
          <p:nvPr/>
        </p:nvSpPr>
        <p:spPr>
          <a:xfrm>
            <a:off x="5000760" y="6904080"/>
            <a:ext cx="1346040" cy="23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Нос – орган обоняни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419640" y="1413000"/>
            <a:ext cx="5400360" cy="4680000"/>
          </a:xfrm>
          <a:prstGeom prst="rect">
            <a:avLst/>
          </a:prstGeom>
          <a:ln w="0">
            <a:noFill/>
          </a:ln>
        </p:spPr>
      </p:pic>
      <p:sp>
        <p:nvSpPr>
          <p:cNvPr id="132" name="WordArt 7"/>
          <p:cNvSpPr txBox="1"/>
          <p:nvPr/>
        </p:nvSpPr>
        <p:spPr>
          <a:xfrm>
            <a:off x="468360" y="2708280"/>
            <a:ext cx="295272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оня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увствов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ах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Как сохранить обоняни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адо закаляться, беречь организм от просту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лазить в нос посторонними предмет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курить, так как  обоняние у курящих ухудшается.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Язык – орган вкус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2997360"/>
            <a:ext cx="288288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4969080" cy="432108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1042920" y="2421000"/>
            <a:ext cx="192420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зы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мога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лич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кус ед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Как беречь органы вкус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истить зубы, язык и щёки два раза в день (утром и вечером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После приёма пищи прополоскать ро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льзя есть горячую пищ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брать в рот острые предме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Кожа – орган осязани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3995640" y="1484280"/>
            <a:ext cx="4464000" cy="4753080"/>
          </a:xfrm>
          <a:prstGeom prst="rect">
            <a:avLst/>
          </a:prstGeom>
          <a:ln w="0">
            <a:noFill/>
          </a:ln>
        </p:spPr>
      </p:pic>
      <p:sp>
        <p:nvSpPr>
          <p:cNvPr id="143" name="WordArt 8"/>
          <p:cNvSpPr txBox="1"/>
          <p:nvPr/>
        </p:nvSpPr>
        <p:spPr>
          <a:xfrm>
            <a:off x="611280" y="2421000"/>
            <a:ext cx="306684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яза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увствов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косновени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Правила ухода за кожей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аждую неделю мыть тело горячей водой с мы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ыть руки после загряз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осить свободную одежду и обу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каля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тараться не ранить кожу, не допустить ожогов, обморо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тобы кожа дышала, делай каждое утро заряд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9246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«Не глаз видит, не ухо слышит, не нос ощущает, а мозг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http://school.ort.spb.ru/library/small_school/nature/chelovec/urok2/pics/mozg2.jpg"/>
          <p:cNvPicPr/>
          <p:nvPr/>
        </p:nvPicPr>
        <p:blipFill>
          <a:blip r:embed="rId1"/>
          <a:stretch/>
        </p:blipFill>
        <p:spPr>
          <a:xfrm>
            <a:off x="1692360" y="3429000"/>
            <a:ext cx="5832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Тест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. У человека есть 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. Глаза -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. Уши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4. Нос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5. Кожа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6. Органы чувств нуж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7. Всеми органами чувств руко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6084720" y="1628640"/>
            <a:ext cx="1581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чувств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WordArt 5"/>
          <p:cNvSpPr txBox="1"/>
          <p:nvPr/>
        </p:nvSpPr>
        <p:spPr>
          <a:xfrm>
            <a:off x="6084720" y="2276640"/>
            <a:ext cx="1609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зре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WordArt 6"/>
          <p:cNvSpPr txBox="1"/>
          <p:nvPr/>
        </p:nvSpPr>
        <p:spPr>
          <a:xfrm>
            <a:off x="6156360" y="2852640"/>
            <a:ext cx="1371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слуха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5867280" y="3357720"/>
            <a:ext cx="213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обоня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WordArt 8"/>
          <p:cNvSpPr txBox="1"/>
          <p:nvPr/>
        </p:nvSpPr>
        <p:spPr>
          <a:xfrm>
            <a:off x="5940360" y="3933720"/>
            <a:ext cx="2019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осяза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6156360" y="4508640"/>
            <a:ext cx="1600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беречь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WordArt 10"/>
          <p:cNvSpPr txBox="1"/>
          <p:nvPr/>
        </p:nvSpPr>
        <p:spPr>
          <a:xfrm>
            <a:off x="2627280" y="5589720"/>
            <a:ext cx="3086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головной мозг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Домашние задание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рочитать статью «Как мы воспринимаем окружающий ми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траницы 132-1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Рабочая тетрадь. Страница 35. Выполнить задание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611280" y="1700280"/>
          <a:ext cx="7924680" cy="362736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320480"/>
                <a:gridCol w="1320840"/>
                <a:gridCol w="1320840"/>
                <a:gridCol w="1320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WordArt 609"/>
          <p:cNvSpPr txBox="1"/>
          <p:nvPr/>
        </p:nvSpPr>
        <p:spPr>
          <a:xfrm>
            <a:off x="1116000" y="2276640"/>
            <a:ext cx="30492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6" name="WordArt 610"/>
          <p:cNvSpPr txBox="1"/>
          <p:nvPr/>
        </p:nvSpPr>
        <p:spPr>
          <a:xfrm>
            <a:off x="1116000" y="2781360"/>
            <a:ext cx="30492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" name="WordArt 611"/>
          <p:cNvSpPr txBox="1"/>
          <p:nvPr/>
        </p:nvSpPr>
        <p:spPr>
          <a:xfrm>
            <a:off x="1116000" y="3284640"/>
            <a:ext cx="3049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8" name="WordArt 612"/>
          <p:cNvSpPr txBox="1"/>
          <p:nvPr/>
        </p:nvSpPr>
        <p:spPr>
          <a:xfrm>
            <a:off x="3780000" y="3284640"/>
            <a:ext cx="3045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9" name="WordArt 613"/>
          <p:cNvSpPr txBox="1"/>
          <p:nvPr/>
        </p:nvSpPr>
        <p:spPr>
          <a:xfrm>
            <a:off x="3780000" y="3860640"/>
            <a:ext cx="304560" cy="3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WordArt 614"/>
          <p:cNvSpPr txBox="1"/>
          <p:nvPr/>
        </p:nvSpPr>
        <p:spPr>
          <a:xfrm>
            <a:off x="3708360" y="4365720"/>
            <a:ext cx="3985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WordArt 615"/>
          <p:cNvSpPr txBox="1"/>
          <p:nvPr/>
        </p:nvSpPr>
        <p:spPr>
          <a:xfrm>
            <a:off x="3780000" y="4869000"/>
            <a:ext cx="304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WordArt 616"/>
          <p:cNvSpPr txBox="1"/>
          <p:nvPr/>
        </p:nvSpPr>
        <p:spPr>
          <a:xfrm>
            <a:off x="5076720" y="1773360"/>
            <a:ext cx="30492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WordArt 617"/>
          <p:cNvSpPr txBox="1"/>
          <p:nvPr/>
        </p:nvSpPr>
        <p:spPr>
          <a:xfrm>
            <a:off x="5076720" y="2276640"/>
            <a:ext cx="30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618"/>
          <p:cNvSpPr txBox="1"/>
          <p:nvPr/>
        </p:nvSpPr>
        <p:spPr>
          <a:xfrm>
            <a:off x="5003640" y="2781360"/>
            <a:ext cx="4320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619"/>
          <p:cNvSpPr txBox="1"/>
          <p:nvPr/>
        </p:nvSpPr>
        <p:spPr>
          <a:xfrm>
            <a:off x="5076720" y="3284640"/>
            <a:ext cx="389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WordArt 620"/>
          <p:cNvSpPr txBox="1"/>
          <p:nvPr/>
        </p:nvSpPr>
        <p:spPr>
          <a:xfrm>
            <a:off x="6443640" y="3357720"/>
            <a:ext cx="3049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7" name="WordArt 621"/>
          <p:cNvSpPr txBox="1"/>
          <p:nvPr/>
        </p:nvSpPr>
        <p:spPr>
          <a:xfrm>
            <a:off x="6443640" y="3789360"/>
            <a:ext cx="30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WordArt 622"/>
          <p:cNvSpPr txBox="1"/>
          <p:nvPr/>
        </p:nvSpPr>
        <p:spPr>
          <a:xfrm>
            <a:off x="6443640" y="4365720"/>
            <a:ext cx="30492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WordArt 623"/>
          <p:cNvSpPr txBox="1"/>
          <p:nvPr/>
        </p:nvSpPr>
        <p:spPr>
          <a:xfrm>
            <a:off x="7740720" y="2276640"/>
            <a:ext cx="30456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624"/>
          <p:cNvSpPr txBox="1"/>
          <p:nvPr/>
        </p:nvSpPr>
        <p:spPr>
          <a:xfrm>
            <a:off x="7740720" y="2781360"/>
            <a:ext cx="30456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WordArt 625"/>
          <p:cNvSpPr txBox="1"/>
          <p:nvPr/>
        </p:nvSpPr>
        <p:spPr>
          <a:xfrm>
            <a:off x="7740720" y="3284640"/>
            <a:ext cx="36036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2" name="WordArt 626"/>
          <p:cNvSpPr txBox="1"/>
          <p:nvPr/>
        </p:nvSpPr>
        <p:spPr>
          <a:xfrm>
            <a:off x="7812000" y="3789360"/>
            <a:ext cx="3049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WordArt 627"/>
          <p:cNvSpPr txBox="1"/>
          <p:nvPr/>
        </p:nvSpPr>
        <p:spPr>
          <a:xfrm>
            <a:off x="2411280" y="3284640"/>
            <a:ext cx="3049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4" name="WordArt 628"/>
          <p:cNvSpPr txBox="1"/>
          <p:nvPr/>
        </p:nvSpPr>
        <p:spPr>
          <a:xfrm>
            <a:off x="1763640" y="5373720"/>
            <a:ext cx="49690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ганы чувст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Глаза</a:t>
            </a:r>
            <a:r>
              <a:rPr b="0" lang="ru-RU" sz="6300" spc="-1" strike="noStrike">
                <a:solidFill>
                  <a:srgbClr val="ffff00"/>
                </a:solidFill>
                <a:latin typeface="Arial"/>
              </a:rPr>
              <a:t> – орган зрения.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8920" y="2754000"/>
            <a:ext cx="453708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529080" cy="3960720"/>
          </a:xfrm>
          <a:prstGeom prst="rect">
            <a:avLst/>
          </a:prstGeom>
          <a:ln w="0">
            <a:noFill/>
          </a:ln>
        </p:spPr>
      </p:pic>
      <p:sp>
        <p:nvSpPr>
          <p:cNvPr id="118" name="WordArt 8"/>
          <p:cNvSpPr txBox="1"/>
          <p:nvPr/>
        </p:nvSpPr>
        <p:spPr>
          <a:xfrm>
            <a:off x="468360" y="1916280"/>
            <a:ext cx="4105080" cy="31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ре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риним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личину, форму, цв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метов и и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положение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Берегите зрение!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итай, пиши только при хорошем освещении, но помни, что яркий свет не должен попадать в гл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леди за тем, чтобы книга или тетрадь были на расстоянии 30-35 см от глаз. Для этого поставь руку локтем на стол и кончиками пальцев дотянись до ви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 письме свет должен падать сл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нигу при чтении полезно поставить на наклонную подстав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читай лё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читай в транспо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лай перерыв между чтением 20-3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редно для глаз подолгу смотреть телевизор, компьютер; садись от экрана не ближе чем 2-3 м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три руками глаза- можно занести соринку или опасные бакте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лай гимнастику для гл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Уши – орган слух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89744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10"/>
          <p:cNvSpPr txBox="1"/>
          <p:nvPr/>
        </p:nvSpPr>
        <p:spPr>
          <a:xfrm>
            <a:off x="5580000" y="2133720"/>
            <a:ext cx="275292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х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риним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вуков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лн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Уши надо беречь !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щищать уши от сильного шу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щищать уши от сильного в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ковырять в уш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ужно давать отдых слуху, быть в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ыть уши кажд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сли уши заболели обратиться к вра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28504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Вот гора, а у г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Две глубокие нор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В этих норах воздух брод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То заходит, то выходи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( нос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05:57:54Z</dcterms:created>
  <dc:creator>Sam</dc:creator>
  <dc:description/>
  <dc:language>en-US</dc:language>
  <cp:lastModifiedBy>ПК</cp:lastModifiedBy>
  <dcterms:modified xsi:type="dcterms:W3CDTF">2012-12-13T03:24:16Z</dcterms:modified>
  <cp:revision>11</cp:revision>
  <dc:subject/>
  <dc:title>Кроссворд</dc:title>
</cp:coreProperties>
</file>